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38216"/>
        <c:axId val="3754711"/>
      </c:barChart>
      <c:catAx>
        <c:axId val="644382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4711"/>
        <c:crosses val="autoZero"/>
        <c:auto val="1"/>
        <c:lblAlgn val="ctr"/>
        <c:lblOffset val="100"/>
        <c:noMultiLvlLbl val="0"/>
      </c:catAx>
      <c:valAx>
        <c:axId val="3754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382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B2B5-B622-48EF-B3F6-2C6C982B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F12A-FDA8-4C84-9A53-47A863F9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439-0052-4F46-A50C-7264436C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E14-A6E8-4B07-BB6A-9833AEEE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9BC5-80A5-43F4-B842-7A2D2BB2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4A9-DED1-4101-ACEB-E5F59296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2BF-9A35-49E6-8F69-42B8FAFD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B00-3C47-459A-ACE0-BC18F535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E7D8-A5C5-4220-A8CE-FF818975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B1DC-27A1-4A4F-AB60-8DEBF301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693-DD4F-4EA5-8D40-0BBA8BB4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345-76C8-4169-8B31-C66800BC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AFA14-484A-4352-919E-9E580E8DE0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