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67904"/>
        <c:axId val="98531314"/>
      </c:barChart>
      <c:catAx>
        <c:axId val="98567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31314"/>
        <c:crosses val="autoZero"/>
        <c:auto val="1"/>
        <c:lblAlgn val="ctr"/>
        <c:lblOffset val="100"/>
        <c:noMultiLvlLbl val="0"/>
      </c:catAx>
      <c:valAx>
        <c:axId val="98531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7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F33-ACEE-4A0E-B6B6-C834B669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625-B9B7-49E5-AF29-E4E28F74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6F4-95B9-419A-8218-705D44C9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37B-89A0-4E23-92DC-15A81947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F81-5343-4739-9C9B-14E85EB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025-D097-46B3-B9F8-D20C9B9A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0EA-820E-40F3-9AE8-1E29D85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03B-6231-498A-9D5F-2AB0ED39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BCC-966A-48F2-ABE6-08996CB4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56B-C649-48C2-8FF2-3CFCFD5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0E8-77BA-4F5E-9A40-98F936E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23B-DA73-4FF6-8820-3DF9994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624A6-E55A-4859-A97C-49E1449AD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