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76022"/>
        <c:axId val="29310382"/>
      </c:barChart>
      <c:catAx>
        <c:axId val="15276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10382"/>
        <c:crosses val="autoZero"/>
        <c:auto val="1"/>
        <c:lblAlgn val="ctr"/>
        <c:lblOffset val="100"/>
        <c:noMultiLvlLbl val="0"/>
      </c:catAx>
      <c:valAx>
        <c:axId val="2931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76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4E9-19D4-49CF-9AC7-F0B1C20D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643-D3D3-4B53-ACCE-78CFF64A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134-444A-4336-A554-393A6F02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1E4-51F9-479E-B952-6E0571D3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314-BFBE-4CF8-BF47-E3595FF7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FAB-2D81-45A7-9B86-2D36A1E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648-FAD8-4F7F-B757-95639F3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F4D-EA6B-4263-880E-5206AD36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71A-5271-4D13-BBC8-94364FF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EAC-1526-4546-A4BE-73B93B4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B12-BF0C-435B-AD91-07A771A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397-56BA-4010-88CA-4B67B94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18CF9-AEBB-4B45-B491-9479B8938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